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3DA-D749-4801-946F-23854349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E47-684E-4C11-A924-E2362D0D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288-E424-4C21-B175-C276DE17C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653C-9D7D-4ADF-B597-8BED1157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287-776E-42F4-B509-0A996C55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9C5-1093-4AC8-9943-B7DE5960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D6F-8EF4-485E-8AD5-17FDAD66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74EA-5D77-4EE1-85D4-D0C9D0E1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1F25-F2CF-4473-AB93-5F5E0E4B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417A-F134-444C-9A31-2AC02821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90D-A8B0-432F-8C90-6D7F4F2D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4D6-B489-4959-A04C-68FE7EDA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4A8C-F835-4A59-88B8-26AC6F0FB39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00"/>
          <p:cNvSpPr txBox="1"/>
          <p:nvPr/>
        </p:nvSpPr>
        <p:spPr>
          <a:xfrm>
            <a:off x="642960" y="352440"/>
            <a:ext cx="44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 Definitiv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versión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00080" y="1071720"/>
          <a:ext cx="3929040" cy="5013000"/>
        </p:xfrm>
        <a:graphic>
          <a:graphicData uri="http://schemas.openxmlformats.org/drawingml/2006/table">
            <a:tbl>
              <a:tblPr/>
              <a:tblGrid>
                <a:gridCol w="2214720"/>
                <a:gridCol w="1000080"/>
                <a:gridCol w="714240"/>
              </a:tblGrid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 [miles de peso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ficación Ambiental en la Gest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32.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Integrada del Recurso Híd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41.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, Conservación y Uso Sostenible de los RN y la Biod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0.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ción de Procesos Productivos Competitivos y Sosten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5.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ción y Control de la Degradac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19.7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SINA para la Gobernabilidad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87.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56.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5 Gráfico" descr=""/>
          <p:cNvPicPr/>
          <p:nvPr/>
        </p:nvPicPr>
        <p:blipFill>
          <a:blip r:embed="rId2"/>
          <a:stretch/>
        </p:blipFill>
        <p:spPr>
          <a:xfrm>
            <a:off x="5065560" y="1279440"/>
            <a:ext cx="37972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9"/>
          <p:cNvSpPr txBox="1"/>
          <p:nvPr/>
        </p:nvSpPr>
        <p:spPr>
          <a:xfrm>
            <a:off x="357120" y="379440"/>
            <a:ext cx="42861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lanificación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n la gestión territori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77" name="7 Gráfico" descr=""/>
          <p:cNvPicPr/>
          <p:nvPr/>
        </p:nvPicPr>
        <p:blipFill>
          <a:blip r:embed="rId2"/>
          <a:stretch/>
        </p:blipFill>
        <p:spPr>
          <a:xfrm>
            <a:off x="1176480" y="1414440"/>
            <a:ext cx="64371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2"/>
          <p:cNvSpPr txBox="1"/>
          <p:nvPr/>
        </p:nvSpPr>
        <p:spPr>
          <a:xfrm>
            <a:off x="393840" y="379440"/>
            <a:ext cx="5607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Conocimiento, Conservación y Us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Sostenible de los RN y la Biodiversidad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1" name="9 Gráfico" descr=""/>
          <p:cNvPicPr/>
          <p:nvPr/>
        </p:nvPicPr>
        <p:blipFill>
          <a:blip r:embed="rId2"/>
          <a:stretch/>
        </p:blipFill>
        <p:spPr>
          <a:xfrm>
            <a:off x="993600" y="1566720"/>
            <a:ext cx="66564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0"/>
          <p:cNvSpPr txBox="1"/>
          <p:nvPr/>
        </p:nvSpPr>
        <p:spPr>
          <a:xfrm>
            <a:off x="395280" y="379440"/>
            <a:ext cx="52484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omoción de Procesos Productiv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Competitivos y Sostenible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5" name="10 Gráfico" descr=""/>
          <p:cNvPicPr/>
          <p:nvPr/>
        </p:nvPicPr>
        <p:blipFill>
          <a:blip r:embed="rId2"/>
          <a:stretch/>
        </p:blipFill>
        <p:spPr>
          <a:xfrm>
            <a:off x="1066680" y="1352520"/>
            <a:ext cx="66564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2"/>
          <p:cNvSpPr txBox="1"/>
          <p:nvPr/>
        </p:nvSpPr>
        <p:spPr>
          <a:xfrm>
            <a:off x="466560" y="379440"/>
            <a:ext cx="46771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vención y Control de la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Degradación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9" name="11 Gráfico" descr=""/>
          <p:cNvPicPr/>
          <p:nvPr/>
        </p:nvPicPr>
        <p:blipFill>
          <a:blip r:embed="rId2"/>
          <a:stretch/>
        </p:blipFill>
        <p:spPr>
          <a:xfrm>
            <a:off x="853920" y="1279440"/>
            <a:ext cx="686916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5"/>
          <p:cNvSpPr txBox="1"/>
          <p:nvPr/>
        </p:nvSpPr>
        <p:spPr>
          <a:xfrm>
            <a:off x="395280" y="379440"/>
            <a:ext cx="51055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Fortalecimiento del SINA para la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obernabilidad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93" name="12 Gráfico" descr=""/>
          <p:cNvPicPr/>
          <p:nvPr/>
        </p:nvPicPr>
        <p:blipFill>
          <a:blip r:embed="rId2"/>
          <a:stretch/>
        </p:blipFill>
        <p:spPr>
          <a:xfrm>
            <a:off x="993600" y="1352520"/>
            <a:ext cx="6797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2571840" y="2571840"/>
            <a:ext cx="4214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RACIA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286000" y="2071800"/>
            <a:ext cx="48578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jecución Presupuestal 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2009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500040" y="136692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y Gastos de la Entidad para la Vigencia Fiscal 2009 guardó concordancia con el Plan Nacional de Desarrollo Ambiental, el Plan de Gestión Ambiental Regional y el Plan de Acción Ajustado 2007-2011 de la Entidad</a:t>
            </a:r>
            <a:r>
              <a:rPr b="0" lang="es-CO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546120" y="379440"/>
            <a:ext cx="302580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187280" y="1285200"/>
            <a:ext cx="666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a Ejecución del Presupuesto de Ingresos de la Entidad para la Vigencia Fiscal 2009 ascendió a la su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33.500.467 miles distribuidos así:</a:t>
            </a:r>
            <a:r>
              <a:rPr b="0" lang="es-C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58920" y="2571840"/>
          <a:ext cx="6626160" cy="2682720"/>
        </p:xfrm>
        <a:graphic>
          <a:graphicData uri="http://schemas.openxmlformats.org/drawingml/2006/table">
            <a:tbl>
              <a:tblPr/>
              <a:tblGrid>
                <a:gridCol w="3241800"/>
                <a:gridCol w="2303280"/>
                <a:gridCol w="1081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ción por Valor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.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bre tasa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977.8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5.4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 Otras Ent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53.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25.6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12.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GRESOS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00.4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474840" y="379440"/>
            <a:ext cx="3025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58" name="1 Gráfico" descr=""/>
          <p:cNvPicPr/>
          <p:nvPr/>
        </p:nvPicPr>
        <p:blipFill>
          <a:blip r:embed="rId2"/>
          <a:stretch/>
        </p:blipFill>
        <p:spPr>
          <a:xfrm>
            <a:off x="920880" y="1206360"/>
            <a:ext cx="694368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387360" y="379440"/>
            <a:ext cx="5113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Distribución del presupuesto de gast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46200" y="1143000"/>
          <a:ext cx="5113440" cy="1676520"/>
        </p:xfrm>
        <a:graphic>
          <a:graphicData uri="http://schemas.openxmlformats.org/drawingml/2006/table">
            <a:tbl>
              <a:tblPr/>
              <a:tblGrid>
                <a:gridCol w="2233800"/>
                <a:gridCol w="1942920"/>
                <a:gridCol w="936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43.9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 de la De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9.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56.4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299.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2 Gráfico" descr=""/>
          <p:cNvPicPr/>
          <p:nvPr/>
        </p:nvPicPr>
        <p:blipFill>
          <a:blip r:embed="rId2"/>
          <a:stretch/>
        </p:blipFill>
        <p:spPr>
          <a:xfrm>
            <a:off x="1779480" y="2992320"/>
            <a:ext cx="46576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316080" y="379440"/>
            <a:ext cx="511308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jecución del presupuesto de gast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14240" y="1143000"/>
          <a:ext cx="7358040" cy="2055960"/>
        </p:xfrm>
        <a:graphic>
          <a:graphicData uri="http://schemas.openxmlformats.org/drawingml/2006/table">
            <a:tbl>
              <a:tblPr/>
              <a:tblGrid>
                <a:gridCol w="3214800"/>
                <a:gridCol w="2795760"/>
                <a:gridCol w="1347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omi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08.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5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 de la De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.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.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120.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82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503.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61.3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4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72230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2:50:51Z</dcterms:modified>
  <cp:revision>6</cp:revision>
  <dc:subject/>
  <dc:title>Diapositiva 1</dc:title>
</cp:coreProperties>
</file>